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FA6-44CC-46B1-9D8F-2CB22B22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FF7-4DE7-49C7-BA41-6BF016F0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F83-EE78-4E87-9EC5-D4326494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524-8DBD-4F65-BD90-06974BFA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A7C-B9D1-4778-9FDD-ABE56A48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132-F3FD-4B12-9806-AE18FFD7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EE6-8982-43BD-B16E-2B976224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0F1-02A2-488B-8C35-9DE6E71D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099-C078-4830-9D22-20D9C5E5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763-5818-4EB8-9A5D-44276695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17B-9DC9-455C-9FF7-A4B5D8D6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1B7-5CED-4D7E-A590-5ABEEFDF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D68A-4121-45CF-8B84-2A1BBF5DB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osphere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2280" y="20574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nd fill in the pie 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_________ is a mixture of gases that surrounds a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 _______ is the weight of the air in the atmosphere pressing down on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 keeps our atmosp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ir from drifting out into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image: pie chart showing that air is made up of nitrogen (78%), oxygen (21%) and other gases (1%)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10080" y="1828800"/>
            <a:ext cx="1219320" cy="6094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1143000"/>
            <a:ext cx="762120" cy="304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5720" y="304920"/>
            <a:ext cx="1066680" cy="3045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2819520"/>
            <a:ext cx="175248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236988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6781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troposphere, temperature _____with 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tratosphere, temperature ______with 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_____layer is found in the strat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yer that contains 75% of our air and our weather is called is the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atmospher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up into layer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based upon their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he diagram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emperature curv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3200400"/>
            <a:ext cx="1752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posp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647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earth is round, the earth is heated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radiation is strongest or more direct intense at the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Radiation is weakest and more indirect at the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reates a temperature imbalance—_____ equator and _______ p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th moves heat from the equator to the poles by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, our ______ and weather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2286000"/>
            <a:ext cx="20574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tmosphere is made of 21%_____ and 78%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ing _____ into our atmosphere can destroy the ozone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live in the ____ where all our weather takes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_____ is a fast high altitude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% of radiation form the sun is absorbed and ___% is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gram sh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______ bree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 ___ is a human pollu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657600"/>
            <a:ext cx="38102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1600200"/>
            <a:ext cx="175248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C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t 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6764" t="6784" r="6906" b="5086"/>
          <a:stretch/>
        </p:blipFill>
        <p:spPr>
          <a:xfrm>
            <a:off x="4495680" y="4348080"/>
            <a:ext cx="4648320" cy="2509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4114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reflects the most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ven cooling and heating rates create _____ &amp; _____ bree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___ ______ occurs during the day when air from the ocean moves in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___ ______ occurs at night when air from the land moves towards the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 breezes and land breezes transfer heat by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38480" y="3906720"/>
            <a:ext cx="5105520" cy="295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3657600"/>
            <a:ext cx="38102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2133720"/>
            <a:ext cx="17524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 b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b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13716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1143000"/>
          <a:ext cx="2590920" cy="2773440"/>
        </p:xfrm>
        <a:graphic>
          <a:graphicData uri="http://schemas.openxmlformats.org/drawingml/2006/table">
            <a:tbl>
              <a:tblPr/>
              <a:tblGrid>
                <a:gridCol w="990720"/>
                <a:gridCol w="838080"/>
                <a:gridCol w="762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ill the table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ce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AM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PM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M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PM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is more ____at the equator and more ____out at the poles, this creates warm temperatures near the ____ and cold temperatures near the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At the _____hot air rises along the equ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 Steady winds called the____ move our weather and storms across the Unites States (we live in th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 The ______ effect causes our winds to curve or def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one in the stratosphere is important because it ______ UV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 heats up and cools more quickly than water creating _____ and ____ bree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657600"/>
            <a:ext cx="38102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2514600"/>
            <a:ext cx="1600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o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ldr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iol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yer _____ contains the space shuttle and is the boundary between space and our atmosphe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yer _____ contains our weath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yer _____ contains the ozone 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yer_____ causes meteors to burn u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rth’s atmosphere is divided up into layers that are based upon their _____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very time you breath, you take in 21 % _____ and 78%______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54640" y="3143160"/>
            <a:ext cx="2889360" cy="3714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10280" y="1981080"/>
            <a:ext cx="19051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______ is the zone around the equator where hot air 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_______ blow from east to west and lie between 0 and 30 degrees lat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_______ blow from west to east and lie between 30 and 60 degrees lat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_______ blow from east to west and lie between 60 and 90 degrees lat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______ blow our weather across the united states (west to 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1676520"/>
            <a:ext cx="175248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d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er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514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5:40:06Z</dcterms:created>
  <dc:creator>jfuller</dc:creator>
  <dc:description/>
  <dc:language>en-US</dc:language>
  <cp:lastModifiedBy>jfuller</cp:lastModifiedBy>
  <dcterms:modified xsi:type="dcterms:W3CDTF">2011-12-05T21:47:27Z</dcterms:modified>
  <cp:revision>60</cp:revision>
  <dc:subject/>
  <dc:title>Atmosphere Bellwork</dc:title>
</cp:coreProperties>
</file>